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404050" cy="43206988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r>
              <a:rPr b="0" lang="en-US" sz="208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0CA8-B267-4FF1-A689-DBD2263CDE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7FCF-DB94-4CCB-AFDB-557BD37DE0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A5F-1EA2-4B0F-A577-14D81BC8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9E23-9C29-447A-8CCB-CCCF8B86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E2E-38CE-400B-9F6E-999235F1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1008036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24973920"/>
            <a:ext cx="939024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DFA-8E3C-4D27-B1D2-22AE2685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76"/>
              </a:spcBef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587-7BC5-4945-B258-401DFB5F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4AB-A325-45C9-BD18-7E711B5C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F637-7F25-4D25-AFE5-A4EA5693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AC3-565D-46CB-9981-5267570D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1730520"/>
            <a:ext cx="2916252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76"/>
              </a:spcBef>
              <a:tabLst>
                <a:tab algn="l" pos="0"/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41F-4C0C-4A4F-AF45-2A609437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A0C-571A-4212-8E82-307EB4DE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2497392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BCE6-3AAF-4657-B540-5AFD830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10080360"/>
            <a:ext cx="1423116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24973920"/>
            <a:ext cx="29162520" cy="1360116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indent="0">
              <a:spcBef>
                <a:spcPts val="3776"/>
              </a:spcBef>
              <a:buNone/>
              <a:tabLst>
                <a:tab algn="l" pos="4321080"/>
                <a:tab algn="l" pos="8642520"/>
              </a:tabLst>
            </a:pP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8EF-887B-45C6-97B2-EE7E8D4C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1730520"/>
            <a:ext cx="29162520" cy="72007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ctr">
            <a:noAutofit/>
          </a:bodyPr>
          <a:p>
            <a:pPr indent="0" algn="ctr">
              <a:buNone/>
              <a:tabLst>
                <a:tab algn="l" pos="0"/>
                <a:tab algn="l" pos="4321080"/>
                <a:tab algn="l" pos="8642520"/>
              </a:tabLst>
            </a:pPr>
            <a:r>
              <a:rPr b="0" lang="en-US" sz="208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20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10080360"/>
            <a:ext cx="29162520" cy="2851452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rmAutofit/>
          </a:bodyPr>
          <a:p>
            <a:pPr marL="1620720" indent="-162072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1" marL="3510000" indent="-134928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2" marL="5400720" indent="-1079640">
              <a:spcBef>
                <a:spcPts val="3776"/>
              </a:spcBef>
              <a:buClr>
                <a:srgbClr val="000000"/>
              </a:buClr>
              <a:buFont typeface="Arial"/>
              <a:buChar char="•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3" marL="7561440" indent="-1081440">
              <a:spcBef>
                <a:spcPts val="3776"/>
              </a:spcBef>
              <a:buClr>
                <a:srgbClr val="000000"/>
              </a:buClr>
              <a:buFont typeface="Arial"/>
              <a:buChar char="–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4" marL="9721800" indent="-108108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5" marL="9721800" indent="-108108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  <a:p>
            <a:pPr lvl="6" marL="9721800" indent="-1081080">
              <a:spcBef>
                <a:spcPts val="3776"/>
              </a:spcBef>
              <a:buClr>
                <a:srgbClr val="000000"/>
              </a:buClr>
              <a:buFont typeface="Arial"/>
              <a:buChar char="»"/>
              <a:tabLst>
                <a:tab algn="l" pos="4321080"/>
                <a:tab algn="l" pos="864252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39344760"/>
            <a:ext cx="755964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39344760"/>
            <a:ext cx="1026180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39344760"/>
            <a:ext cx="7559640" cy="3000240"/>
          </a:xfrm>
          <a:prstGeom prst="rect">
            <a:avLst/>
          </a:prstGeom>
          <a:noFill/>
          <a:ln w="0">
            <a:noFill/>
          </a:ln>
        </p:spPr>
        <p:txBody>
          <a:bodyPr lIns="432000" rIns="432000" tIns="216000" bIns="216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16EB-205B-466A-BB5B-5722F773A91C}" type="slidenum">
              <a:rPr b="0" lang="en-US" sz="6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16175160" y="11665080"/>
            <a:ext cx="15724080" cy="18210960"/>
          </a:xfrm>
          <a:prstGeom prst="rect">
            <a:avLst/>
          </a:prstGeom>
          <a:solidFill>
            <a:srgbClr val="ffffff">
              <a:alpha val="61000"/>
            </a:srgbClr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35"/>
          <p:cNvSpPr/>
          <p:nvPr/>
        </p:nvSpPr>
        <p:spPr>
          <a:xfrm>
            <a:off x="455760" y="320760"/>
            <a:ext cx="81565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4321080"/>
                <a:tab algn="l" pos="8642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53"/>
          <p:cNvSpPr/>
          <p:nvPr/>
        </p:nvSpPr>
        <p:spPr>
          <a:xfrm>
            <a:off x="20919960" y="33579720"/>
            <a:ext cx="6553440" cy="12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Titre de la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35"/>
          <p:cNvGrpSpPr/>
          <p:nvPr/>
        </p:nvGrpSpPr>
        <p:grpSpPr>
          <a:xfrm>
            <a:off x="455760" y="34977240"/>
            <a:ext cx="31442760" cy="5280480"/>
            <a:chOff x="455760" y="34977240"/>
            <a:chExt cx="31442760" cy="5280480"/>
          </a:xfrm>
        </p:grpSpPr>
        <p:sp>
          <p:nvSpPr>
            <p:cNvPr id="52" name="Rectangle 8"/>
            <p:cNvSpPr/>
            <p:nvPr/>
          </p:nvSpPr>
          <p:spPr>
            <a:xfrm>
              <a:off x="465840" y="35941680"/>
              <a:ext cx="31432680" cy="4316040"/>
            </a:xfrm>
            <a:prstGeom prst="rect">
              <a:avLst/>
            </a:prstGeom>
            <a:solidFill>
              <a:srgbClr val="ffffff">
                <a:alpha val="61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Conclusion, réflexions, points à améliorer,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Police du texte de paragraphe : Arial 2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25"/>
            <p:cNvSpPr/>
            <p:nvPr/>
          </p:nvSpPr>
          <p:spPr>
            <a:xfrm>
              <a:off x="455760" y="34977240"/>
              <a:ext cx="31442760" cy="11833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180000" bIns="180000" anchor="t">
              <a:spAutoFit/>
            </a:bodyPr>
            <a:p>
              <a:pPr marL="457200" indent="-457200"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CONCLUS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253"/>
          <p:cNvSpPr/>
          <p:nvPr/>
        </p:nvSpPr>
        <p:spPr>
          <a:xfrm>
            <a:off x="20018520" y="22367160"/>
            <a:ext cx="6553080" cy="12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000000"/>
                </a:solidFill>
                <a:latin typeface="Arial"/>
              </a:rPr>
              <a:t>Titre de la fig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46040" y="2709720"/>
            <a:ext cx="31435560" cy="7835760"/>
          </a:xfrm>
          <a:prstGeom prst="rect">
            <a:avLst/>
          </a:prstGeom>
          <a:solidFill>
            <a:srgbClr val="bfbfbf">
              <a:alpha val="61000"/>
            </a:srgbClr>
          </a:solidFill>
          <a:ln w="7632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360000" rIns="360000" tIns="360000" bIns="360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7f7f7f"/>
                </a:solidFill>
                <a:latin typeface="Arial"/>
              </a:rPr>
              <a:t>Travail de Master of Science HES-SO en Engineer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7200" spc="-1" strike="noStrike">
                <a:solidFill>
                  <a:srgbClr val="c00000"/>
                </a:solidFill>
                <a:latin typeface="Arial"/>
              </a:rPr>
              <a:t>Tit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000000"/>
                </a:solidFill>
                <a:latin typeface="Arial"/>
              </a:rPr>
              <a:t>Prénom  N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Professeur responsable  :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Prénom  Nom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EIA-FR ou HEIG-VD ou HE-Arc ou Hepia ou HES-SO Vala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00"/>
                </a:solidFill>
                <a:latin typeface="Arial"/>
              </a:rPr>
              <a:t>En collaboration avec  </a:t>
            </a:r>
            <a:r>
              <a:rPr b="1" lang="fr-CH" sz="4000" spc="-1" strike="noStrike">
                <a:solidFill>
                  <a:srgbClr val="000000"/>
                </a:solidFill>
                <a:latin typeface="Arial"/>
              </a:rPr>
              <a:t>Entreprise xy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3" descr=""/>
          <p:cNvPicPr/>
          <p:nvPr/>
        </p:nvPicPr>
        <p:blipFill>
          <a:blip r:embed="rId1"/>
          <a:stretch/>
        </p:blipFill>
        <p:spPr>
          <a:xfrm>
            <a:off x="19432440" y="41765400"/>
            <a:ext cx="12423960" cy="1117800"/>
          </a:xfrm>
          <a:prstGeom prst="rect">
            <a:avLst/>
          </a:prstGeom>
          <a:ln w="0">
            <a:noFill/>
          </a:ln>
        </p:spPr>
      </p:pic>
      <p:pic>
        <p:nvPicPr>
          <p:cNvPr id="57" name="Image 25" descr=""/>
          <p:cNvPicPr/>
          <p:nvPr/>
        </p:nvPicPr>
        <p:blipFill>
          <a:blip r:embed="rId2"/>
          <a:stretch/>
        </p:blipFill>
        <p:spPr>
          <a:xfrm>
            <a:off x="480960" y="40767120"/>
            <a:ext cx="261936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0" y="2239920"/>
            <a:ext cx="32465880" cy="469800"/>
          </a:xfrm>
          <a:prstGeom prst="rect">
            <a:avLst/>
          </a:prstGeom>
          <a:solidFill>
            <a:srgbClr val="595959"/>
          </a:solidFill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35"/>
          <p:cNvGrpSpPr/>
          <p:nvPr/>
        </p:nvGrpSpPr>
        <p:grpSpPr>
          <a:xfrm>
            <a:off x="455760" y="10506240"/>
            <a:ext cx="15452280" cy="18900000"/>
            <a:chOff x="455760" y="10506240"/>
            <a:chExt cx="15452280" cy="18900000"/>
          </a:xfrm>
        </p:grpSpPr>
        <p:sp>
          <p:nvSpPr>
            <p:cNvPr id="60" name="Rectangle 8"/>
            <p:cNvSpPr/>
            <p:nvPr/>
          </p:nvSpPr>
          <p:spPr>
            <a:xfrm>
              <a:off x="467640" y="11195280"/>
              <a:ext cx="15440400" cy="18210960"/>
            </a:xfrm>
            <a:prstGeom prst="rect">
              <a:avLst/>
            </a:prstGeom>
            <a:solidFill>
              <a:srgbClr val="ffffff">
                <a:alpha val="61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5"/>
            <p:cNvSpPr/>
            <p:nvPr/>
          </p:nvSpPr>
          <p:spPr>
            <a:xfrm>
              <a:off x="455760" y="10506240"/>
              <a:ext cx="15452280" cy="11833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180000" bIns="180000" anchor="t">
              <a:spAutoFit/>
            </a:bodyPr>
            <a:p>
              <a:pPr marL="457200" indent="-457200"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DESCRIP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24" descr=""/>
          <p:cNvPicPr/>
          <p:nvPr/>
        </p:nvPicPr>
        <p:blipFill>
          <a:blip r:embed="rId3"/>
          <a:stretch/>
        </p:blipFill>
        <p:spPr>
          <a:xfrm>
            <a:off x="17391240" y="27635040"/>
            <a:ext cx="12442680" cy="59994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5"/>
          <p:cNvSpPr/>
          <p:nvPr/>
        </p:nvSpPr>
        <p:spPr>
          <a:xfrm>
            <a:off x="16183080" y="10506240"/>
            <a:ext cx="15716160" cy="1183320"/>
          </a:xfrm>
          <a:prstGeom prst="rect">
            <a:avLst/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RESULT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5" descr=""/>
          <p:cNvPicPr/>
          <p:nvPr/>
        </p:nvPicPr>
        <p:blipFill>
          <a:blip r:embed="rId4"/>
          <a:stretch/>
        </p:blipFill>
        <p:spPr>
          <a:xfrm>
            <a:off x="18956160" y="16351200"/>
            <a:ext cx="9311040" cy="57704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16232040" y="11665080"/>
            <a:ext cx="15624360" cy="228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lice des titres de paragraphe: Arial 54  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lice du texte de paragraphe :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x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480960" y="11700000"/>
            <a:ext cx="15409800" cy="11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instructions présentées dans ce document  constituent des directives pour la préparation d’un POSTER de votre travail de master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registrez le fichier poster sous votre nom 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emple :  Buetzberger Poster TM 2013-2014. 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fichier « ppt »  ( de taille maximale 60 Mo) est à déposer sur Moodle MSE 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à l’emplacement suivan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8880" indent="-571680"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Arial"/>
              </a:rPr>
              <a:t>TM Semestre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Dépôt de ra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571680"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Arial"/>
              </a:rPr>
              <a:t>Dépôt de poster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pouvez y accéder avec votre compte AAI HES-SO et une clef d’inscrip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aille du poster est A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lice des titres de paragraphe: Arial 54  G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lice du texte de paragraphe :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35"/>
          <p:cNvGrpSpPr/>
          <p:nvPr/>
        </p:nvGrpSpPr>
        <p:grpSpPr>
          <a:xfrm>
            <a:off x="466560" y="23099760"/>
            <a:ext cx="15454080" cy="18855720"/>
            <a:chOff x="466560" y="23099760"/>
            <a:chExt cx="15454080" cy="18855720"/>
          </a:xfrm>
        </p:grpSpPr>
        <p:sp>
          <p:nvSpPr>
            <p:cNvPr id="68" name="Rectangle 8"/>
            <p:cNvSpPr/>
            <p:nvPr/>
          </p:nvSpPr>
          <p:spPr>
            <a:xfrm>
              <a:off x="479880" y="23744520"/>
              <a:ext cx="15440760" cy="18210960"/>
            </a:xfrm>
            <a:prstGeom prst="rect">
              <a:avLst/>
            </a:prstGeom>
            <a:solidFill>
              <a:srgbClr val="ffffff">
                <a:alpha val="61000"/>
              </a:srgbClr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360000" bIns="360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25"/>
            <p:cNvSpPr/>
            <p:nvPr/>
          </p:nvSpPr>
          <p:spPr>
            <a:xfrm>
              <a:off x="466560" y="23099760"/>
              <a:ext cx="15454080" cy="11833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180000" bIns="180000" anchor="t">
              <a:spAutoFit/>
            </a:bodyPr>
            <a:p>
              <a:pPr marL="457200" indent="-457200" algn="ctr"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OBJECTIF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56"/>
          <p:cNvSpPr/>
          <p:nvPr/>
        </p:nvSpPr>
        <p:spPr>
          <a:xfrm>
            <a:off x="480960" y="24514200"/>
            <a:ext cx="15409800" cy="102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lice du texte de paragraphe :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2" descr=""/>
          <p:cNvPicPr/>
          <p:nvPr/>
        </p:nvPicPr>
        <p:blipFill>
          <a:blip r:embed="rId5"/>
          <a:stretch/>
        </p:blipFill>
        <p:spPr>
          <a:xfrm>
            <a:off x="27976680" y="174600"/>
            <a:ext cx="392724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22:18:59Z</dcterms:created>
  <dc:creator>HES-SO</dc:creator>
  <dc:description/>
  <dc:language>en-US</dc:language>
  <cp:lastModifiedBy>Pellaux Didier</cp:lastModifiedBy>
  <cp:lastPrinted>2011-11-29T15:48:48Z</cp:lastPrinted>
  <dcterms:modified xsi:type="dcterms:W3CDTF">2015-01-20T10:34:06Z</dcterms:modified>
  <cp:revision>97</cp:revision>
  <dc:subject/>
  <dc:title>Diapositive 1</dc:title>
</cp:coreProperties>
</file>